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42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4.wmf" ContentType="image/x-wmf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47.wmf" ContentType="image/x-wmf"/>
  <Override PartName="/ppt/media/image31.jpeg" ContentType="image/jpeg"/>
  <Override PartName="/ppt/media/image41.png" ContentType="image/png"/>
  <Override PartName="/ppt/media/image46.wmf" ContentType="image/x-wmf"/>
  <Override PartName="/ppt/media/image12.jpeg" ContentType="image/jpe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7BD-387E-45E6-9F6D-16DEB367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539-6174-4B43-97A2-00FCB199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860-A047-4267-BED6-2641DE4F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95F-0449-421F-8FD7-8FB9A2E0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ED5-DB46-4343-A73A-146E4217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BD1-1156-4118-AFDA-AE2471C6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903-2580-4C11-BA0B-1006207B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B22-EFA5-4220-AF4B-D945A005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9CF-3CE8-434D-BF2A-640BD639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01B-2E9D-4BC9-AFEA-46E0A760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946-C559-473A-B59F-710FF29B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C53-F650-488B-9647-EA105A5A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E490-46C2-46AD-94B3-581CB0420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15.pn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hyperlink" Target="file:///&#1086;&#1087;&#1099;&#1083;&#1077;&#1085;&#1080;&#1077;%20&#1088;&#1072;&#1089;&#1090;&#1077;&#1085;&#1080;&#1081;.swf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hyperlink" Target="file:///&#1087;&#1086;&#1082;&#1088;&#1086;&#1074;&#1080;&#1090;&#1077;&#1083;&#1100;&#1089;&#1090;&#1074;&#1077;&#1085;&#1085;&#1072;&#1103;%20&#1086;&#1082;&#1088;&#1072;&#1089;&#1082;&#1072;.swf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64000" cy="2976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16360" y="1125360"/>
            <a:ext cx="3961080" cy="2965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429000" y="4476600"/>
            <a:ext cx="5715000" cy="2381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99400">
            <a:off x="755280" y="2565000"/>
            <a:ext cx="38894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ипы связей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и зависимостей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 биогеоценоз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58920" y="5877000"/>
            <a:ext cx="12477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 класс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14000" y="2080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рок- л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8760" y="5900760"/>
            <a:ext cx="827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ногие  коадаптации сформировались на основе прямых трофических связ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935360" cy="201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867280" y="765000"/>
            <a:ext cx="2737080" cy="2409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39640" y="189000"/>
            <a:ext cx="7867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пространение семян и плодов животным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3284640"/>
            <a:ext cx="1504800" cy="2522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4160" y="2924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020000" y="3500280"/>
            <a:ext cx="1444680" cy="2159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948360" y="32130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урунду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700360" y="1197000"/>
            <a:ext cx="3024000" cy="1811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780000" y="306864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 rot="21420600">
            <a:off x="2987640" y="3715920"/>
            <a:ext cx="3168720" cy="2008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20572200">
            <a:off x="3417120" y="4382640"/>
            <a:ext cx="23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2276640"/>
            <a:ext cx="360360" cy="1873080"/>
          </a:xfrm>
          <a:custGeom>
            <a:avLst/>
            <a:gdLst>
              <a:gd name="textAreaLeft" fmla="*/ 48240 w 360360"/>
              <a:gd name="textAreaRight" fmla="*/ 312120 w 360360"/>
              <a:gd name="textAreaTop" fmla="*/ 327600 h 1873080"/>
              <a:gd name="textAreaBottom" fmla="*/ 135792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532720" y="2205000"/>
            <a:ext cx="468360" cy="1800360"/>
          </a:xfrm>
          <a:custGeom>
            <a:avLst/>
            <a:gdLst>
              <a:gd name="textAreaLeft" fmla="*/ 62640 w 468360"/>
              <a:gd name="textAreaRight" fmla="*/ 405720 w 468360"/>
              <a:gd name="textAreaTop" fmla="*/ 315000 h 1800360"/>
              <a:gd name="textAreaBottom" fmla="*/ 13053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4" descr="видео"/>
          <p:cNvPicPr/>
          <p:nvPr/>
        </p:nvPicPr>
        <p:blipFill>
          <a:blip r:embed="rId7"/>
          <a:stretch/>
        </p:blipFill>
        <p:spPr>
          <a:xfrm>
            <a:off x="7093080" y="6165720"/>
            <a:ext cx="720720" cy="479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535840" y="34225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9640" y="189000"/>
            <a:ext cx="7867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ногообразие связей в биогеоценоз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765000"/>
            <a:ext cx="424980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огеоценотических свя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2060640"/>
            <a:ext cx="1655640" cy="576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заимнополез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2060640"/>
            <a:ext cx="180036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лезнонейтр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2060640"/>
            <a:ext cx="158436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лезновре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2060640"/>
            <a:ext cx="1584360" cy="57636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заимновре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3429000"/>
            <a:ext cx="172872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мби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508640"/>
            <a:ext cx="1728720" cy="57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3429000"/>
            <a:ext cx="1728720" cy="576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менс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56000" y="4508640"/>
            <a:ext cx="1728720" cy="57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хлеб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5661000"/>
            <a:ext cx="1728720" cy="576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вартир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3429000"/>
            <a:ext cx="1728720" cy="576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ищ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59280" y="4508640"/>
            <a:ext cx="1728720" cy="576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зи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5661000"/>
            <a:ext cx="1728720" cy="576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парази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3080" y="3429000"/>
            <a:ext cx="1728720" cy="576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аг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4508640"/>
            <a:ext cx="1728720" cy="576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177336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1484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242100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479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2421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6093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479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3716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1128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3280" y="234936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234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328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2349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4000" y="234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04000" y="3789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486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276720" y="333360"/>
            <a:ext cx="15429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мбиоз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96108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341600" cy="3284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51840" y="50799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419640" y="476280"/>
            <a:ext cx="19238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туализм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0" name="Picture 10" descr="Симбиоз-микориза"/>
          <p:cNvPicPr/>
          <p:nvPr/>
        </p:nvPicPr>
        <p:blipFill>
          <a:blip r:embed="rId1"/>
          <a:stretch/>
        </p:blipFill>
        <p:spPr>
          <a:xfrm>
            <a:off x="250920" y="98100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2880" y="371628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кориза или грибо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Лишайник"/>
          <p:cNvPicPr/>
          <p:nvPr/>
        </p:nvPicPr>
        <p:blipFill>
          <a:blip r:embed="rId2"/>
          <a:stretch/>
        </p:blipFill>
        <p:spPr>
          <a:xfrm>
            <a:off x="4859280" y="1125360"/>
            <a:ext cx="3706920" cy="317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870880" y="414972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шай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Термиты"/>
          <p:cNvPicPr/>
          <p:nvPr/>
        </p:nvPicPr>
        <p:blipFill>
          <a:blip r:embed="rId3"/>
          <a:stretch/>
        </p:blipFill>
        <p:spPr>
          <a:xfrm>
            <a:off x="1187280" y="4076640"/>
            <a:ext cx="3996000" cy="2630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295600" y="595008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рм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59280" y="333360"/>
            <a:ext cx="25923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куренц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040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958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987640" y="404640"/>
            <a:ext cx="23907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ищничеств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770280" cy="2827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3544920" cy="2800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63640" y="4076640"/>
            <a:ext cx="3097440" cy="2416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219640" y="4076640"/>
            <a:ext cx="3529080" cy="2384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видео"/>
          <p:cNvPicPr/>
          <p:nvPr/>
        </p:nvPicPr>
        <p:blipFill>
          <a:blip r:embed="rId5"/>
          <a:stretch/>
        </p:blipFill>
        <p:spPr>
          <a:xfrm>
            <a:off x="324000" y="5084640"/>
            <a:ext cx="115236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419640" y="333360"/>
            <a:ext cx="20667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азитизм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168720" cy="2130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3021120" cy="2265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724360" y="3500280"/>
            <a:ext cx="3203640" cy="2157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видео"/>
          <p:cNvPicPr/>
          <p:nvPr/>
        </p:nvPicPr>
        <p:blipFill>
          <a:blip r:embed="rId5"/>
          <a:stretch/>
        </p:blipFill>
        <p:spPr>
          <a:xfrm>
            <a:off x="6300720" y="5805360"/>
            <a:ext cx="1152720" cy="766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Паразитизм"/>
          <p:cNvPicPr/>
          <p:nvPr/>
        </p:nvPicPr>
        <p:blipFill>
          <a:blip r:embed="rId6"/>
          <a:stretch/>
        </p:blipFill>
        <p:spPr>
          <a:xfrm>
            <a:off x="3564000" y="3500280"/>
            <a:ext cx="194292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5" descr="MCj04404520000[1]"/>
          <p:cNvPicPr/>
          <p:nvPr/>
        </p:nvPicPr>
        <p:blipFill>
          <a:blip r:embed="rId1"/>
          <a:stretch/>
        </p:blipFill>
        <p:spPr>
          <a:xfrm>
            <a:off x="395280" y="1052640"/>
            <a:ext cx="1508040" cy="2016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187280" y="476280"/>
            <a:ext cx="72583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чение  взаимосвязей для биогеоценоз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14280" y="2421000"/>
            <a:ext cx="6868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я тип связи между видами, 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положить, что произойдет с этими вид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нарушении, разрыве исторически сложивш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аимных отнош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разрушении связей виды могут погибну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ли выпасть из данного биогеоценоза,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едет сообщество к потере  его устойчив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340000" y="333360"/>
            <a:ext cx="4257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стоятельная работ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392360" cy="2784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MCj04404280000[1]"/>
          <p:cNvPicPr/>
          <p:nvPr/>
        </p:nvPicPr>
        <p:blipFill>
          <a:blip r:embed="rId2"/>
          <a:stretch/>
        </p:blipFill>
        <p:spPr>
          <a:xfrm>
            <a:off x="4932360" y="1413000"/>
            <a:ext cx="3279600" cy="3456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19640" y="29242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3080" y="33577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55640" y="1628640"/>
            <a:ext cx="7777080" cy="41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25, подготовить мини-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Типы биогеоценотических связ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780000" y="1628640"/>
            <a:ext cx="22287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н лекци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0720" y="2997360"/>
            <a:ext cx="663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общение темы и задач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ы зависимостей в биогеоце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пы взаимосвязей в биогеоце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чение связей для биогеоцен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MCj04377970000[1]"/>
          <p:cNvPicPr/>
          <p:nvPr/>
        </p:nvPicPr>
        <p:blipFill>
          <a:blip r:embed="rId1"/>
          <a:stretch/>
        </p:blipFill>
        <p:spPr>
          <a:xfrm>
            <a:off x="611280" y="1268280"/>
            <a:ext cx="1873080" cy="168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227640" y="5300640"/>
            <a:ext cx="12207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04680" y="1176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 наблюдаем теснейш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заимодействие и пол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дружество мира органического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. В. Докуча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230640" cy="242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24360" y="2817720"/>
            <a:ext cx="4798800" cy="3598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417528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3640" y="5373360"/>
            <a:ext cx="821844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у возникновения и существования биоценозов представляют отношения организмов, их связи, в которые они вступают друг с другом, населяя один и тот же биотоп. Эти связи определяют основные условия жизни видов в сообществе, возможности добывания пищи и завоевания нового простран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535640" cy="3341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3816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вые организмы поселяются друг с другом не случайно, а образуют определенные сообщества, приспособленные к совместному обитанию. По направленности действия на организм все воздействия могут быть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епосредственным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свенными; 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лезными, вредными или нейтра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3959280" cy="364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6348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51664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и отношения между видами складывались на протяжении длите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ремени исторического развития экосистем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В результате у совмест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обитающих  видов сформировались взаимно приспособительные свойств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403360" cy="3433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03640" y="1413000"/>
            <a:ext cx="2814480" cy="2828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348000" y="333360"/>
            <a:ext cx="22575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адаптац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6" name="Picture 14" descr="видео"/>
          <p:cNvPicPr/>
          <p:nvPr/>
        </p:nvPicPr>
        <p:blipFill>
          <a:blip r:embed="rId3"/>
          <a:stretch/>
        </p:blipFill>
        <p:spPr>
          <a:xfrm>
            <a:off x="1042920" y="4724280"/>
            <a:ext cx="720720" cy="47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видео"/>
          <p:cNvPicPr/>
          <p:nvPr/>
        </p:nvPicPr>
        <p:blipFill>
          <a:blip r:embed="rId4"/>
          <a:stretch/>
        </p:blipFill>
        <p:spPr>
          <a:xfrm>
            <a:off x="4140360" y="4797360"/>
            <a:ext cx="792000" cy="52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видео"/>
          <p:cNvPicPr/>
          <p:nvPr/>
        </p:nvPicPr>
        <p:blipFill>
          <a:blip r:embed="rId5"/>
          <a:stretch/>
        </p:blipFill>
        <p:spPr>
          <a:xfrm>
            <a:off x="7020000" y="4676760"/>
            <a:ext cx="947520" cy="63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1480" y="4292640"/>
            <a:ext cx="22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ыление насеком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4200" y="4292640"/>
            <a:ext cx="19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ыление птиц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9360" y="4292640"/>
            <a:ext cx="283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ыление летучими мыш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227640" y="836640"/>
            <a:ext cx="2562480" cy="338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46920" y="907920"/>
            <a:ext cx="82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608360" cy="3071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916360" y="260280"/>
            <a:ext cx="2095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имик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040" y="5537160"/>
            <a:ext cx="67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некоторых обитателей биоценоза возник способ защи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ражательность окраски и форм тела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932360" y="2276640"/>
            <a:ext cx="4211640" cy="282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видео"/>
          <p:cNvPicPr/>
          <p:nvPr/>
        </p:nvPicPr>
        <p:blipFill>
          <a:blip r:embed="rId3"/>
          <a:stretch/>
        </p:blipFill>
        <p:spPr>
          <a:xfrm>
            <a:off x="2050920" y="4508640"/>
            <a:ext cx="72072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979640" y="404640"/>
            <a:ext cx="52293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кровительственная окраск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172040" cy="3127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19640" y="3933720"/>
            <a:ext cx="3581640" cy="2773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643280" y="1251000"/>
            <a:ext cx="4176720" cy="2550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79080" y="5535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547640" y="404640"/>
            <a:ext cx="5886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остерегающая окраск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3313440" cy="4176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3067200" cy="2524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201280" y="5656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34196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5:23:48Z</dcterms:created>
  <dc:creator>ПОЛЬЗОВАТЕЛЬ</dc:creator>
  <dc:description/>
  <dc:language>en-US</dc:language>
  <cp:lastModifiedBy>Admin</cp:lastModifiedBy>
  <dcterms:modified xsi:type="dcterms:W3CDTF">2012-01-22T15:35:05Z</dcterms:modified>
  <cp:revision>13</cp:revision>
  <dc:subject/>
  <dc:title>Слайд 1</dc:title>
</cp:coreProperties>
</file>